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2080" y="478296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32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632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020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208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632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020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987480"/>
            <a:ext cx="7240320" cy="9162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32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52080" y="478296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32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6632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0200" y="402912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5208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6632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0200" y="4782960"/>
            <a:ext cx="23940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987480"/>
            <a:ext cx="7240320" cy="91627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14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320" y="478296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208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320" y="4029120"/>
            <a:ext cx="362844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2080" y="4782960"/>
            <a:ext cx="7435800" cy="68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01560" y="1268280"/>
            <a:ext cx="8142480" cy="29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-229320">
              <a:lnSpc>
                <a:spcPct val="90000"/>
              </a:lnSpc>
              <a:spcBef>
                <a:spcPts val="1001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4" marL="1588680" indent="-2293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5" marL="1588680" indent="-2293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6" marL="1588680" indent="-2293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09480" y="1068480"/>
            <a:ext cx="8070840" cy="554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2800" y="6531120"/>
            <a:ext cx="2124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http://www.overbyte.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008840" y="5867280"/>
            <a:ext cx="2125800" cy="98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080" y="23760"/>
            <a:ext cx="536400" cy="678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622800" y="6531120"/>
            <a:ext cx="2124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http://www.overbyte.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380360" y="5664240"/>
            <a:ext cx="1773000" cy="1176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560"/>
            <a:ext cx="8229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361800" indent="-17280" algn="ctr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 algn="ctr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58920" indent="-231840" algn="ctr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998640" indent="374400" algn="ctr">
              <a:lnSpc>
                <a:spcPct val="90000"/>
              </a:lnSpc>
              <a:spcBef>
                <a:spcPts val="788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998640" indent="37440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998640" indent="374400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97776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3004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ommunication Inter Processu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rançois PIET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OverBy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530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anaux anonymes </a:t>
            </a: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(anonymous pip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6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imilaire aux canaux nommé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onodirectionn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mme il n’y a plus de nom, cela ne fonctionne qu’entre processus sur la même machin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Il faut transmettre au client le handle du canal ouvert par le serveu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ar héritage entre un processus fils et son pè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ar un des autres mécanismes IPC pour deux processus indépendan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Pipe, ReadFile, WriteFile, CloseHand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Zones de courrier (mail slot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51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mmunication à sens uniqu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e application peut enregistrer un message dans une zone de courrier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 propriétaire de la zone de courrier peut récupérer les messages qui y ont été enregistré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s messages sont généralement envoyés à travers le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Vers un ordinateur spécifiqu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Vers tous les ordinateurs d’un domaine ou d’un groupe de travail (Broadcast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Transmission non fiable utilisant des datagramm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érieuses limitations de tail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Moins de 64 Ko par messag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Messages de 425 ou 426 octets interdits !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lus de broadcast au-dessus de 426 octe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Zones de courrier – Les no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32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\.\mailslot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Pour une zone loca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computername</a:t>
            </a: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mailslot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Pour une zone sur un autre ordinateur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domainname</a:t>
            </a: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mailslot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Pour toutes les zones du domaine spécifié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\\*\mailslot\</a:t>
            </a:r>
            <a:r>
              <a:rPr b="1" i="1" lang="fr-BE" sz="23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Pour toutes les zones du domaine principa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Zones de courrier - AP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46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MailSlo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rée une nouvelle zone de courrier pour recevoir des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Ouvre une zone de courrier existante pour envoyer des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GetMailSlotInfo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our connaître le nombre et la taille des messages reçu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ReadFile, Write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our lire et écrire les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loseHand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our fermer une zone de courrier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Zones de courrier – Pour/Cont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267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 principal intérêt est la possibilité d’envoyer un message à tous les ordinateurs d’un domaine ou d’un groupe de travail( broadcast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ment bloquan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cours au multi-thread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aussi bien en local qu’en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avec tous types de protocole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émoire partagée (shared memory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24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Une même zone mémoire physique est allouée dans l’espace mémoire virtuelle de plusieurs processu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oit 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a zone mémoire correspond à un fichier sur disque qui sert de fichier d’échange (swap file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a zone mémoire est directement reliée au fichier d’échange de Window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émoire partagée - Schém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57360" y="2125800"/>
            <a:ext cx="863640" cy="13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57360" y="2419920"/>
            <a:ext cx="863640" cy="291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300" spc="-1" strike="noStrike">
                <a:solidFill>
                  <a:srgbClr val="000000"/>
                </a:solidFill>
                <a:latin typeface="Arial"/>
              </a:rPr>
              <a:t>VUE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57360" y="2884320"/>
            <a:ext cx="863640" cy="39384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300" spc="-1" strike="noStrike">
                <a:solidFill>
                  <a:srgbClr val="000000"/>
                </a:solidFill>
                <a:latin typeface="Arial"/>
              </a:rPr>
              <a:t>VUE 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3440" y="1620720"/>
            <a:ext cx="1666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MEMOIRE VIRTUEL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PROCESSUS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3440" y="3781440"/>
            <a:ext cx="1666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MEMOIRE VIRTUEL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PROCESSUS 2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57360" y="4286160"/>
            <a:ext cx="863640" cy="136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57360" y="4638600"/>
            <a:ext cx="863640" cy="43992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300" spc="-1" strike="noStrike">
                <a:solidFill>
                  <a:srgbClr val="000000"/>
                </a:solidFill>
                <a:latin typeface="Arial"/>
              </a:rPr>
              <a:t>VUE 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34080" y="2413080"/>
            <a:ext cx="1152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FICHIER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100" spc="-1" strike="noStrike">
                <a:solidFill>
                  <a:srgbClr val="ffffff"/>
                </a:solidFill>
                <a:latin typeface="Arial"/>
              </a:rPr>
              <a:t>D’ECHAN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34080" y="2916360"/>
            <a:ext cx="1152360" cy="21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34080" y="3268800"/>
            <a:ext cx="1152360" cy="944280"/>
          </a:xfrm>
          <a:prstGeom prst="rect">
            <a:avLst/>
          </a:prstGeom>
          <a:solidFill>
            <a:srgbClr val="c0c0c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3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1300" spc="-1" strike="noStrike">
                <a:solidFill>
                  <a:srgbClr val="000000"/>
                </a:solidFill>
                <a:latin typeface="Arial"/>
              </a:rPr>
              <a:t>PARTAGE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5360" y="4646520"/>
            <a:ext cx="144720" cy="432000"/>
          </a:xfrm>
          <a:custGeom>
            <a:avLst/>
            <a:gdLst>
              <a:gd name="textAreaLeft" fmla="*/ 0 w 144720"/>
              <a:gd name="textAreaRight" fmla="*/ 5220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94080" y="2413080"/>
            <a:ext cx="144360" cy="288720"/>
          </a:xfrm>
          <a:custGeom>
            <a:avLst/>
            <a:gdLst>
              <a:gd name="textAreaLeft" fmla="*/ 0 w 144360"/>
              <a:gd name="textAreaRight" fmla="*/ 52200 w 14436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94080" y="2917800"/>
            <a:ext cx="144360" cy="3603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3278160"/>
            <a:ext cx="144720" cy="216000"/>
          </a:xfrm>
          <a:custGeom>
            <a:avLst/>
            <a:gdLst>
              <a:gd name="textAreaLeft" fmla="*/ 92520 w 144720"/>
              <a:gd name="textAreaRight" fmla="*/ 145080 w 14472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46440" y="3637080"/>
            <a:ext cx="144720" cy="360360"/>
          </a:xfrm>
          <a:custGeom>
            <a:avLst/>
            <a:gdLst>
              <a:gd name="textAreaLeft" fmla="*/ 92520 w 144720"/>
              <a:gd name="textAreaRight" fmla="*/ 145080 w 144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4" idx="1"/>
            <a:endCxn id="146" idx="1"/>
          </p:cNvCxnSpPr>
          <p:nvPr/>
        </p:nvCxnSpPr>
        <p:spPr>
          <a:xfrm>
            <a:off x="3538440" y="3098520"/>
            <a:ext cx="1008720" cy="71964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8" name=""/>
          <p:cNvCxnSpPr>
            <a:stCxn id="142" idx="1"/>
            <a:endCxn id="146" idx="1"/>
          </p:cNvCxnSpPr>
          <p:nvPr/>
        </p:nvCxnSpPr>
        <p:spPr>
          <a:xfrm flipV="1">
            <a:off x="3609720" y="3817440"/>
            <a:ext cx="937080" cy="104544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9" name=""/>
          <p:cNvCxnSpPr>
            <a:stCxn id="143" idx="1"/>
            <a:endCxn id="145" idx="1"/>
          </p:cNvCxnSpPr>
          <p:nvPr/>
        </p:nvCxnSpPr>
        <p:spPr>
          <a:xfrm>
            <a:off x="3538440" y="2557440"/>
            <a:ext cx="1008720" cy="829440"/>
          </a:xfrm>
          <a:prstGeom prst="curvedConnector5">
            <a:avLst>
              <a:gd name="adj1" fmla="val 49910"/>
              <a:gd name="adj2" fmla="val 49978"/>
              <a:gd name="adj3" fmla="val 49910"/>
            </a:avLst>
          </a:prstGeom>
          <a:ln w="9360">
            <a:solidFill>
              <a:srgbClr val="ffffff"/>
            </a:solidFill>
            <a:miter/>
          </a:ln>
        </p:spPr>
      </p:cxn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émoire partagée - AP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FileMapping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rée ou ouvre un objet de mémoire partagé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Associé à un fichier déterminé ou au fichier d’échang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OpenFileMapping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Ouvre un objet (existant) de mémoire partagé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apViewOf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lace un objet mémoire partagée dans l’espace d’adressage du processus appelant =&gt; Obtient le pointeur sur le bloc de mémoire partagé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UnMapViewOf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tire l’objet mémoire partagée de l’espace d’adressag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loseHand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Ferme un objet de mémoire partagé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émoire partagée - Utilis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49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a mémoire partagée se manipule comme n’importe quel bloc de mémoire via un pointeu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’adresse du bloc n’est pas forcément la même dans tous les processu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a mémoire partagée n’est physiquement allouée que lorsqu’elle est utilisée, par pages de 4KB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a mémoire partagée est écrite sur disque au moment opportun par l’OS mais on peut forcer l’écriture avec FlushViewOf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Il faut régler l’accès simultané à la mémoire partagée pour assurer la cohérence des donné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Mutex, InterlockedIncrement, InterlockedDecrement, InterlockedExchange, InterlockedCompareExchange, InterlockedExchangeAdd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36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éfinition 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Abstraction informatique pour manipuler les communications réseau.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ouvent associé à TCP/IP mais fonctionne avec d’autres protocoles comme IPX ou AppleTalk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PI empruntée à Unix et étendue aux spécificités de Window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Fonctionnement asynchron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aussi bien en local que sur un LAN, un WAN ou l’Interne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452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François Piet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9440" y="1479600"/>
            <a:ext cx="790704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uteur de I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20720" y="2052720"/>
            <a:ext cx="8367840" cy="4213080"/>
            <a:chOff x="720720" y="2052720"/>
            <a:chExt cx="8367840" cy="4213080"/>
          </a:xfrm>
        </p:grpSpPr>
        <p:sp>
          <p:nvSpPr>
            <p:cNvPr id="87" name=""/>
            <p:cNvSpPr/>
            <p:nvPr/>
          </p:nvSpPr>
          <p:spPr>
            <a:xfrm>
              <a:off x="1391760" y="2052720"/>
              <a:ext cx="769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B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Internet Component Suite</a:t>
              </a: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: une série de composants TCP/IP freeware</a:t>
              </a:r>
              <a:r>
                <a:rPr b="1" lang="fr-BE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 inclus sur les CD compagnons de Delphi, Kylix et C++ Builde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20720" y="6077520"/>
              <a:ext cx="92556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BE" sz="700" spc="-1" strike="noStrike">
                  <a:solidFill>
                    <a:srgbClr val="ffffff"/>
                  </a:solidFill>
                  <a:latin typeface="Arial"/>
                </a:rPr>
                <a:t>1. Sans restriction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49440" y="3637080"/>
            <a:ext cx="790704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4920" indent="-3049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uteur de MidWa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27200" y="4179960"/>
            <a:ext cx="8222760" cy="2228400"/>
            <a:chOff x="727200" y="4179960"/>
            <a:chExt cx="8222760" cy="2228400"/>
          </a:xfrm>
        </p:grpSpPr>
        <p:sp>
          <p:nvSpPr>
            <p:cNvPr id="91" name=""/>
            <p:cNvSpPr/>
            <p:nvPr/>
          </p:nvSpPr>
          <p:spPr>
            <a:xfrm>
              <a:off x="1388520" y="4179960"/>
              <a:ext cx="75614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40680" bIns="4068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Une série de composants pour construire des applications multi-tiers. Freeware</a:t>
              </a:r>
              <a:r>
                <a:rPr b="1" lang="fr-BE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fr-BE" sz="1800" spc="-1" strike="noStrike">
                  <a:solidFill>
                    <a:srgbClr val="ffffff"/>
                  </a:solidFill>
                  <a:latin typeface="Arial"/>
                </a:rPr>
                <a:t> inclus sur les CD compagnons de Delphi et C++ Build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200" y="6220080"/>
              <a:ext cx="203328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2880"/>
                  <a:tab algn="l" pos="1625760"/>
                  <a:tab algn="l" pos="2438280"/>
                  <a:tab algn="l" pos="3251160"/>
                  <a:tab algn="l" pos="4064040"/>
                  <a:tab algn="l" pos="4876920"/>
                  <a:tab algn="l" pos="5689440"/>
                  <a:tab algn="l" pos="6502320"/>
                  <a:tab algn="l" pos="7315200"/>
                  <a:tab algn="l" pos="8128080"/>
                  <a:tab algn="l" pos="8940960"/>
                  <a:tab algn="l" pos="9753480"/>
                  <a:tab algn="l" pos="10566360"/>
                </a:tabLst>
              </a:pPr>
              <a:r>
                <a:rPr b="1" lang="fr-BE" sz="700" spc="-1" strike="noStrike">
                  <a:solidFill>
                    <a:srgbClr val="ffffff"/>
                  </a:solidFill>
                  <a:latin typeface="Arial"/>
                </a:rPr>
                <a:t>2. Seulement pour un usage non commercial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Sockets – TCP/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2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rincipalement deux protocoles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anal de communication bidirectionnel fiable et transpar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Fonctionne comme un flux continu (stream) d’oct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Notion de connex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Seulement le unica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onceptuellement proche des canaux nommés (named pip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DP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Transmission non fi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Fonctionne par paquet (datagramm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Permet le broadcast et le multica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onceptuellement proche des zones de courrier (mail slo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Sockets – WinSock AP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ocket – Ouvre un socke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Bind – Associe une adresse loca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isten – Attend les connexions entrantes (serveur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ccept – Accepte une connexion entrante (Serveur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nnect – Etablit une connexion (client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Recv – Reçoit des donné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end – Transmet des donné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hutdown – Termine la communication propremen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loseSocket – Ferme la communicatio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Et encore un tas d’autres fonctions accessoires…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Sockets – Composants Delph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’API Winsock est encapsulée par des composants faciles à utilise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Beaucoup de produits commerciaux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eux produits gratuits important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ICS - Internet Component Sui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Freeware, sur le CD compagnon de Delph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e seule version pour Delphi 1 à Delphi 200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Par François Piette avec l’aide d’une grande communaut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http://www.overbyte.be/fren/products/ics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Indy : Internet Direc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Freeware, incorporé à Delphi 6+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Nombreuses versions spécifiqu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Par Chad Z. Hower avec l’aide d’une grande communaut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http://www.indyproject.org/index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6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Windows est un OS basé sur les événemen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ctions de la souris: déplacements, click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ctions du clavier: enfoncement/relâchement de touche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ctions système: fermeture de session, déplacements de fenêtres, activité réseau, périphériques amovibles,…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ctions sur mesure inventées par le programmeur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s événements sont implémentés par des messag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s messages peuvent passer par une file d’atten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e file d’attente par thread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s messages sont adressés à un thread ou une fenêt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e fenêtre n’est pas forcément un élément de l’interface utilisateur. C’est juste une structure de données interne de l’O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– La pom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119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s messages ne se gèrent pas tout seu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Il faut les récupérer de la file d’attent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Il faut les faire exécuter par les gestionnair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18600" y="2844720"/>
            <a:ext cx="3725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=&gt; La pompe à messag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720" y="3564000"/>
            <a:ext cx="8142480" cy="26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8120" indent="-4381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ans l’unité Forms (applications graphique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TApplication.HandleMessa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TApplication.ProcessMessag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PI de Windows (applications console, thread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999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GetMessage, PeekMessage, TranslateMessage, DispatchMessage, WaitMessa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- Messag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1200" y="1267920"/>
            <a:ext cx="854388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Un message est composé de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 numéro de messag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0000..$03FF = messages système </a:t>
            </a:r>
            <a:r>
              <a:rPr b="1" lang="fr-BE" sz="1200" spc="-1" strike="noStrike">
                <a:solidFill>
                  <a:srgbClr val="ffffff"/>
                </a:solidFill>
                <a:latin typeface="Arial"/>
              </a:rPr>
              <a:t>(0..WM_USER-1)</a:t>
            </a: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0400..$BFFF = messages applicatifs statiques </a:t>
            </a:r>
            <a:r>
              <a:rPr b="1" lang="fr-BE" sz="1200" spc="-1" strike="noStrike">
                <a:solidFill>
                  <a:srgbClr val="ffffff"/>
                </a:solidFill>
                <a:latin typeface="Arial"/>
              </a:rPr>
              <a:t>(WM_USER..WM_USER+48127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C000..$FFFF = messages applicatifs dynamiques </a:t>
            </a:r>
            <a:r>
              <a:rPr b="1" lang="fr-BE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fr-BE" sz="1200" spc="-1" strike="noStrike">
                <a:solidFill>
                  <a:srgbClr val="ffffff"/>
                </a:solidFill>
                <a:latin typeface="Arial"/>
              </a:rPr>
              <a:t>RegisterWindowMessag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 handle de destination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0000 =&gt; File d’attente du thr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FFFF =&gt; Broadcast à toutes les fenêtres principa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$0001..$FFFE =&gt; Vers la fenêtre identifiée par le hand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 premier paramètre nommé WPara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 simple nombre entier 32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 second paramètre nommé LPara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 simple nombre entier 32 bi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0">
              <a:lnSpc>
                <a:spcPct val="90000"/>
              </a:lnSpc>
              <a:spcBef>
                <a:spcPts val="913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- Envoy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ostMessag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lace un message dans la file d’attente et retourne immédiateme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endMessag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Ne passe pas par la file d’atten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Appelle directement la procédure de traitement des messages du destinataire, attend que le traitement soit terminé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s messages sont toujours exécutés dans le contexte du thread du destinatair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Excellent moyen de communication entre thread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- Recevoi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1200" y="1267920"/>
            <a:ext cx="85438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 compilateur Delphi et ses bibliothèques d’exécution organisent le traitement des messag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our tout composant dérivant de TWinContro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Donc pour les TFor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Donc pour vos composants qui dérivent de TWinContro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yntaxe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Définir un N° de message statique applicatif: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const WM_MON_MESSAGE = WM_USER + 1234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Dans la classe, déclarer un gestionnaire: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procedure WMMonMessage(var Msg: TMessage); message WM_MON_MESSAG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Implémenter le gestionnaire: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procedure TForm1. WMMonMessage(var Msg: TMessage)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// Tout ce qu’il faut fa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246320" indent="0">
              <a:lnSpc>
                <a:spcPct val="90000"/>
              </a:lnSpc>
              <a:spcBef>
                <a:spcPts val="612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- Implé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s N° de messages choisis ne doivent pas entrer en conflit avec quelque chose d’exista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s N° de messages sont propres à chaque destinatai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Deux fenêtres peuvent utiliser le même N° sans confli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gisterWindowMessage attribue un N° de message sur base d’une chaîne de caractè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Pratique entre application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Moins facile à utiliser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913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 plus facile: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Créer une classe qui dérive de TWinControl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Dispose de son propre « espace » de N° de messa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58920" indent="-23184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fr-BE" sz="1600" spc="-1" strike="noStrike">
                <a:solidFill>
                  <a:srgbClr val="ffffff"/>
                </a:solidFill>
                <a:latin typeface="Arial"/>
              </a:rPr>
              <a:t>Peut utiliser les N° de message statiques WM_USER et suiv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Implémente la gestion de vos messages applicatif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Consititue en quelques sortes un « objet métier 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-220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Saine pratique PO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3420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essages Windows - </a:t>
            </a:r>
            <a:r>
              <a:rPr b="1" lang="fr-BE" sz="3200" spc="-1" strike="noStrike">
                <a:solidFill>
                  <a:srgbClr val="ffffff"/>
                </a:solidFill>
                <a:latin typeface="Arial"/>
              </a:rPr>
              <a:t>WM_COPY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52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Un message système de Window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révu pour copier des données entre application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rincipe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e structure TCopyDataStruct décrit la copie à fair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 code de fonction laissé à la discrétion du programmeu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 nombre d’octets à cop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Un pointeur sur les octets à cop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Un SendMessage(DestHandle, WM_COPYDATA, SrcHandle, LParam(@CopyDataStruct))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indows copie les données de l’espace d’adresse du processus appelant dans l’espace d’adressage du processus appellé et recrée la structure CopyDataStruct chez le destinataire avant d’invoquer le gestionnaire du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ièg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Passer des pointeurs !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530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ommunication Inter Processus (IPC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840" y="2090880"/>
            <a:ext cx="8221320" cy="2482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760" y="2023920"/>
            <a:ext cx="216000" cy="2606760"/>
          </a:xfrm>
          <a:prstGeom prst="rect">
            <a:avLst/>
          </a:prstGeom>
          <a:gradFill rotWithShape="0">
            <a:gsLst>
              <a:gs pos="0">
                <a:srgbClr val="838383"/>
              </a:gs>
              <a:gs pos="100000">
                <a:srgbClr val="e2e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18400" y="2023920"/>
            <a:ext cx="228600" cy="2606760"/>
          </a:xfrm>
          <a:prstGeom prst="rect">
            <a:avLst/>
          </a:prstGeom>
          <a:gradFill rotWithShape="0">
            <a:gsLst>
              <a:gs pos="0">
                <a:srgbClr val="838383"/>
              </a:gs>
              <a:gs pos="100000">
                <a:srgbClr val="e2e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960" y="2023920"/>
            <a:ext cx="8555040" cy="155880"/>
          </a:xfrm>
          <a:custGeom>
            <a:avLst/>
            <a:gdLst>
              <a:gd name="textAreaLeft" fmla="*/ 805680 w 8555040"/>
              <a:gd name="textAreaRight" fmla="*/ 7749360 w 8555040"/>
              <a:gd name="textAreaTop" fmla="*/ 14400 h 155880"/>
              <a:gd name="textAreaBottom" fmla="*/ 14148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088" y="21600"/>
                </a:lnTo>
                <a:lnTo>
                  <a:pt x="512" y="2160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46240" y="4475520"/>
            <a:ext cx="8607240" cy="155880"/>
          </a:xfrm>
          <a:custGeom>
            <a:avLst/>
            <a:gdLst>
              <a:gd name="textAreaLeft" fmla="*/ 832680 w 8607240"/>
              <a:gd name="textAreaRight" fmla="*/ 7774560 w 8607240"/>
              <a:gd name="textAreaTop" fmla="*/ 14760 h 155880"/>
              <a:gd name="textAreaBottom" fmla="*/ 14112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88" y="21600"/>
                </a:lnTo>
                <a:lnTo>
                  <a:pt x="612" y="2160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2178000"/>
            <a:ext cx="8148600" cy="2286000"/>
          </a:xfrm>
          <a:prstGeom prst="rect">
            <a:avLst/>
          </a:prstGeom>
          <a:solidFill>
            <a:srgbClr val="0258f2"/>
          </a:solidFill>
          <a:ln w="19080">
            <a:solidFill>
              <a:srgbClr val="354281"/>
            </a:solidFill>
            <a:miter/>
          </a:ln>
          <a:effectLst>
            <a:outerShdw dist="17819" dir="2700000" blurRad="0" rotWithShape="0">
              <a:srgbClr val="1f27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2340000"/>
            <a:ext cx="7473960" cy="21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542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0520" indent="-290520" algn="ctr">
              <a:spcBef>
                <a:spcPts val="12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La communication inter-processus désigne l’échange de données entre deux processus, soit s’exécutant sur le même ordinateur, soit sur deux ordinateurs connectés au sein d’un résea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Mutex, Semaphores, Ev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bstractions de l’OS, manipulées par un « handle »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Fonctionnent aussi bien entre threads qu’entre processus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Attente de disponibilité avec une des fonctions « wait »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WaitForSignleObject, WaitForMultipleObject, Msg WaitForMultipleObject et versions « Ex »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Mutex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Peut être « acquis » par un et un seul thread à la fois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Wait : Acquiert le mutex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ReleaseMutex : Libère le mutex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Peut être « acquis » un nombre fixé de fois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Wait : Décrémente le compt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Releaseemaphore: Incrémente le compte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825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9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Peut être activé à la demande 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577800" indent="-233280">
              <a:lnSpc>
                <a:spcPct val="90000"/>
              </a:lnSpc>
              <a:spcBef>
                <a:spcPts val="7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700" spc="-1" strike="noStrike">
                <a:solidFill>
                  <a:srgbClr val="ffffff"/>
                </a:solidFill>
                <a:latin typeface="Arial"/>
              </a:rPr>
              <a:t>SetEvent, ResetEvent, PulseEvent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Presse papier (clipboar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4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Un stockage de données inter-application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upporte la notion de forma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Textes, images, sons,…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Encapsulé dans la classe TClipboard dans l’unité Clipbrd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En principe réservé à l’utilisateur pour le copier/couper/colle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onc une mauvaise idée de l’utiliser pour la communication inter-processu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Sauf quand on n’est pas maître de l’application source ou destination auquel cas on peut faire par programme ce que l’utilisateur aurait fait manuelleme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DDE (Dynamic Data Exchang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7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Transfert de données utilisant la mémoire partagée et les messages Window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rotocole client/serveur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onversation entre un serveur et ses client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Implémenté au niveau système dans DDEML.DL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Encapsulé par Delphi dans des composants (DdeMan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lient: TDdeClientConv, TDDEClientIte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Serveur: TDdeServerConv, TDdeServerIte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Beaucoup d’infos dans l’aide de Delphi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Network DDE: même principe appliqué à des machines connectées en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Ancienne technique à remplacer par COM/DCO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OLE/COM/DC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OLE = Ancien nom de CO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M = Component Object Mod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COM = Distributed Component Object Mod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’est COM en réseau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Spécifications qui décrivent comment des objets COM peuvent interagir avec d’autres objets COM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Indépendant du langage: un objet Delphi peut accéder un objet C++ et vice-versa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a seule manière d’accéder un objet, c’est à travers ses interfac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’est un très grand sujet qui à lui seul nécessiterait plusieurs conférence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Fichiers, base de données, regist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22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entionné ici pour être complet: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lève plus des programmes multi-utilisateurs que de la communication inter-processu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éthodes indirectes de communication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Le registre de Windows, c’est finalement une base de données systèm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987480"/>
            <a:ext cx="7240320" cy="19764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52080" y="4029120"/>
            <a:ext cx="7435800" cy="14428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indent="0" algn="ctr">
              <a:lnSpc>
                <a:spcPct val="95000"/>
              </a:lnSpc>
              <a:spcBef>
                <a:spcPts val="26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39680" y="115920"/>
            <a:ext cx="7456680" cy="64864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42640" y="4316400"/>
            <a:ext cx="7435800" cy="19749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Autofit/>
          </a:bodyPr>
          <a:p>
            <a:pPr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ensez à remettre votre fiche d’évaluation</a:t>
            </a:r>
            <a:br>
              <a:rPr sz="2100"/>
            </a:b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our me contacter …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rancois.piette@overbyte.b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6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ttp://www.overbyte.b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6080" y="23760"/>
            <a:ext cx="536400" cy="6786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240680" cy="53820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erci !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Process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4840" y="2090880"/>
            <a:ext cx="8221320" cy="2482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2360" y="2023920"/>
            <a:ext cx="230400" cy="3052800"/>
          </a:xfrm>
          <a:prstGeom prst="rect">
            <a:avLst/>
          </a:prstGeom>
          <a:gradFill rotWithShape="0">
            <a:gsLst>
              <a:gs pos="0">
                <a:srgbClr val="838383"/>
              </a:gs>
              <a:gs pos="100000">
                <a:srgbClr val="e2e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18400" y="2031840"/>
            <a:ext cx="230400" cy="3052800"/>
          </a:xfrm>
          <a:prstGeom prst="rect">
            <a:avLst/>
          </a:prstGeom>
          <a:gradFill rotWithShape="0">
            <a:gsLst>
              <a:gs pos="0">
                <a:srgbClr val="838383"/>
              </a:gs>
              <a:gs pos="100000">
                <a:srgbClr val="e2e2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960" y="2023920"/>
            <a:ext cx="8555040" cy="155880"/>
          </a:xfrm>
          <a:custGeom>
            <a:avLst/>
            <a:gdLst>
              <a:gd name="textAreaLeft" fmla="*/ 805680 w 8555040"/>
              <a:gd name="textAreaRight" fmla="*/ 7749360 w 8555040"/>
              <a:gd name="textAreaTop" fmla="*/ 14400 h 155880"/>
              <a:gd name="textAreaBottom" fmla="*/ 141480 h 15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088" y="21600"/>
                </a:lnTo>
                <a:lnTo>
                  <a:pt x="512" y="2160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52360" y="4924800"/>
            <a:ext cx="8607600" cy="165240"/>
          </a:xfrm>
          <a:custGeom>
            <a:avLst/>
            <a:gdLst>
              <a:gd name="textAreaLeft" fmla="*/ 832680 w 8607600"/>
              <a:gd name="textAreaRight" fmla="*/ 7774920 w 8607600"/>
              <a:gd name="textAreaTop" fmla="*/ 15840 h 165240"/>
              <a:gd name="textAreaBottom" fmla="*/ 1494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88" y="21600"/>
                </a:lnTo>
                <a:lnTo>
                  <a:pt x="612" y="21600"/>
                </a:lnTo>
                <a:close/>
              </a:path>
            </a:pathLst>
          </a:custGeom>
          <a:gradFill rotWithShape="0">
            <a:gsLst>
              <a:gs pos="0">
                <a:srgbClr val="e2e2e2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720" y="2178000"/>
            <a:ext cx="8280720" cy="2754360"/>
          </a:xfrm>
          <a:prstGeom prst="rect">
            <a:avLst/>
          </a:prstGeom>
          <a:solidFill>
            <a:srgbClr val="0258f2"/>
          </a:solidFill>
          <a:ln w="19080">
            <a:solidFill>
              <a:srgbClr val="354281"/>
            </a:solidFill>
            <a:miter/>
          </a:ln>
          <a:effectLst>
            <a:outerShdw dist="17819" dir="2700000" blurRad="0" rotWithShape="0">
              <a:srgbClr val="1f27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0000"/>
            <a:ext cx="7473960" cy="244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542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0520" indent="-290520" algn="ctr">
              <a:spcBef>
                <a:spcPts val="12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Un processus est un programme en cours d’exéc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ctr">
              <a:spcBef>
                <a:spcPts val="12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Ce peut être un exécutable, une DLL, un service, un ActiveX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290520" algn="ctr">
              <a:spcBef>
                <a:spcPts val="1225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Arial"/>
              </a:rPr>
              <a:t>L’IPC s’applique aussi aux threa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Liste des mécanis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73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anaux nommés (named pipes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anaux anonymes (anonymous pipes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Zones de courrier (mail slot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émoire partagée (shared memory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essages Window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emaphores, Mutex, Event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Presse papier (clipboard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DDE (Dynamic Data Exchange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OLE/COM/DCO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ichier, base de données, registr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anaux nommés (named pipe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763640"/>
            <a:ext cx="8142480" cy="36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anal de communication entre un serveur et un ou plusieurs clients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ono ou bi-directionnel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comme un FIFO (First-In, First-Out)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Mode byte et mode messag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anal identifié par un nom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lient: \\</a:t>
            </a: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LeServeur</a:t>
            </a: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\pipe\</a:t>
            </a: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LeNomDuCana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Serveur: \\</a:t>
            </a: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\pipe\</a:t>
            </a:r>
            <a:r>
              <a:rPr b="1" i="1" lang="fr-BE" sz="2100" spc="-1" strike="noStrike">
                <a:solidFill>
                  <a:srgbClr val="ffffff"/>
                </a:solidFill>
                <a:latin typeface="Arial"/>
              </a:rPr>
              <a:t>LeNomDuCana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ôté serveur, il faut une instance par clien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anaux nommés – Côté serveu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41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NamedPip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rée une nouvelle instance d’un canal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onnectNamedPip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Attend qu’un client se connect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Read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cture de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Write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Écriture de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loseHand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Fermeture d’une inst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anaux nommés – Côté cli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1560" y="1268280"/>
            <a:ext cx="814248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reate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rée une instance et connecte au serveur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WaitNamedPipe permet d’attendre qu’il y aie une instance serveur disponib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allNamedPip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onnecte à un serveur, attend si pas d’instance disponibl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SetNamedPipeHandleStat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Change le mode byte/messag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Read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Lecture de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WriteFi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Écriture de données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8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CloseHandle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8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Fermeture d’une instance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160" y="573120"/>
            <a:ext cx="814356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3600" spc="-1" strike="noStrike">
                <a:solidFill>
                  <a:srgbClr val="ffffff"/>
                </a:solidFill>
                <a:latin typeface="Arial"/>
              </a:rPr>
              <a:t>Canaux nommés – Pour/Cont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1560" y="1267920"/>
            <a:ext cx="81424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ment bloquant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cours au multi-threading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30760">
              <a:lnSpc>
                <a:spcPct val="90000"/>
              </a:lnSpc>
              <a:spcBef>
                <a:spcPts val="913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100" spc="-1" strike="noStrike">
                <a:solidFill>
                  <a:srgbClr val="ffffff"/>
                </a:solidFill>
                <a:latin typeface="Arial"/>
              </a:rPr>
              <a:t>Recours aux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Overlapped I/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Completion routin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Évén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3600" indent="-218160">
              <a:lnSpc>
                <a:spcPct val="90000"/>
              </a:lnSpc>
              <a:spcBef>
                <a:spcPts val="788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1800" spc="-1" strike="noStrike">
                <a:solidFill>
                  <a:srgbClr val="ffffff"/>
                </a:solidFill>
                <a:latin typeface="Arial"/>
              </a:rPr>
              <a:t>WaitForMultipleObjects ou similai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aussi bien en local qu’en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27520" indent="-227520">
              <a:lnSpc>
                <a:spcPct val="90000"/>
              </a:lnSpc>
              <a:spcBef>
                <a:spcPts val="1001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fr-BE" sz="2300" spc="-1" strike="noStrike">
                <a:solidFill>
                  <a:srgbClr val="ffffff"/>
                </a:solidFill>
                <a:latin typeface="Arial"/>
              </a:rPr>
              <a:t>Fonctionne avec tous types de protocole réseau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6:45:13Z</dcterms:created>
  <dc:creator>François PIETTE</dc:creator>
  <dc:description>Présentation de la conférence sur les communications inter-processus présentée à la Borcon 2004/Paris. Le texte et les exemples de programmes peuvent être téléchargés à http://www.overbyte.be</dc:description>
  <cp:keywords>2004</cp:keywords>
  <dc:language>en-US</dc:language>
  <cp:lastModifiedBy>Piette François</cp:lastModifiedBy>
  <cp:lastPrinted>1998-03-12T04:44:47Z</cp:lastPrinted>
  <dcterms:modified xsi:type="dcterms:W3CDTF">2004-11-16T19:05:08Z</dcterms:modified>
  <cp:revision>65</cp:revision>
  <dc:subject>Conférence Borland Paris 2004</dc:subject>
  <dc:title>Communication Inter Processus</dc:title>
</cp:coreProperties>
</file>